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76647"/>
        <c:axId val="16819304"/>
      </c:barChart>
      <c:catAx>
        <c:axId val="82476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19304"/>
        <c:crosses val="autoZero"/>
        <c:auto val="1"/>
        <c:lblAlgn val="ctr"/>
        <c:lblOffset val="100"/>
        <c:noMultiLvlLbl val="0"/>
      </c:catAx>
      <c:valAx>
        <c:axId val="16819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76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DE7-BC88-43D0-864A-5A637BD5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00D-5280-46BA-B23C-29D548D3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B24-BBE5-4E0F-966F-983A98B8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59E-7A80-4B38-8B18-68AEA36D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F4E-F000-400E-B3C6-94B5E085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E9C-A9C8-4D5E-ABD6-486C7E66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EE6-20EF-4F3D-B94A-0812BCAA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3C1-A581-4564-9748-269E4B87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DB5-C1C1-493A-BEBF-2AF7A325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79E-FD60-4A8D-BF5F-9D7809DC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BF6-3E02-4022-AB5B-52EC8896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4A2-DFF7-4655-B982-CB0FBAA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6A8AE-7283-494E-A212-A1352B3955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