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768363"/>
        <c:axId val="290683"/>
      </c:barChart>
      <c:catAx>
        <c:axId val="777683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683"/>
        <c:crosses val="autoZero"/>
        <c:auto val="1"/>
        <c:lblAlgn val="ctr"/>
        <c:lblOffset val="100"/>
        <c:noMultiLvlLbl val="0"/>
      </c:catAx>
      <c:valAx>
        <c:axId val="2906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7683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FA6A-1ABE-4043-9C5B-AC93C2087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8D89-A98B-4765-9E3E-B7E485FF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FB7A-5686-45DD-81D3-8D849C7DF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077F-AFCA-4260-B55D-39F5FE9A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22A7-855D-41D5-91EE-5AE6CF0B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2F8E-9566-403A-A0D3-41E81B75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E9F1-62D2-4AF1-A1D0-6557FD5E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0553-FFB8-4784-8FFA-6A0F2405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6475-17A3-4884-8612-CC9EDE75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3BEB-BBDB-49A4-AABD-0D215C5C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7264-A27B-49C9-B720-4BE92F82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6DD9-3076-4B94-AEBF-F4FAF5FA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AA864-F0C6-46ED-843C-0AB12742EE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