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12410"/>
        <c:axId val="99589083"/>
      </c:barChart>
      <c:catAx>
        <c:axId val="64912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89083"/>
        <c:crosses val="autoZero"/>
        <c:auto val="1"/>
        <c:lblAlgn val="ctr"/>
        <c:lblOffset val="100"/>
        <c:noMultiLvlLbl val="0"/>
      </c:catAx>
      <c:valAx>
        <c:axId val="99589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12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A50-CF48-4C62-B3C5-84F6B81C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FFA-5C42-430C-82DD-1499D59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8B4-547E-4593-9706-39421E38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FF8-4AB5-4A39-801E-E7B65CD8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586-D791-4D52-A900-B4F47D30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B84-4C57-4411-A057-191F98C8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2E7-22EE-4224-9DFF-EF316D35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317-9D35-4AE0-B401-4778180D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3C7-C8EB-48DF-AF78-2C314F8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FCB-3FBB-4788-9F81-106F6947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E6A-5605-40A2-9DEB-B9DEAAD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B42-D18F-49B7-A8DA-8296DE9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4E14B-59DA-4E8C-8EFE-0D5456954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