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28590"/>
        <c:axId val="30235260"/>
      </c:barChart>
      <c:catAx>
        <c:axId val="5082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35260"/>
        <c:crosses val="autoZero"/>
        <c:auto val="1"/>
        <c:lblAlgn val="ctr"/>
        <c:lblOffset val="100"/>
        <c:noMultiLvlLbl val="0"/>
      </c:catAx>
      <c:valAx>
        <c:axId val="30235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566-F578-4EE9-9601-D59A1826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314-2C8C-4020-AC7A-44BE1BF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A57-12D4-4E6D-8EC4-F8478046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576-1D7C-4A89-80D0-5BF3C7F8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69F-6070-4101-B54F-86C709C5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2E6-5383-4AF0-8F53-1BADFA0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89F-7B3E-4DE2-9870-CEB71D5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3CB-F57B-41AC-8CBE-5744DA3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798-67DF-445D-A7EE-0A87185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600-28AC-4A52-BF9C-7B9379C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E52-4326-4456-A6DC-773B4F6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C2C-4F6A-4ADE-9E59-044F7B9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C9938-B2EF-4B9B-974F-FF00C41011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