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40737"/>
        <c:axId val="51994339"/>
      </c:barChart>
      <c:catAx>
        <c:axId val="17340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94339"/>
        <c:crosses val="autoZero"/>
        <c:auto val="1"/>
        <c:lblAlgn val="ctr"/>
        <c:lblOffset val="100"/>
        <c:noMultiLvlLbl val="0"/>
      </c:catAx>
      <c:valAx>
        <c:axId val="51994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0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A8F-F052-49CD-BFA9-6AAE07AD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7C0-9EF6-4AB1-9A17-2E9C972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97D-4C6A-4A9C-A284-A1F79BF6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B57-3E4B-487E-890A-CA9986A1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FD6-F199-4C25-9332-CB3E040E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53C-607B-4A0E-B308-4F6C718E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457-9E65-4121-AF71-59702F2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DEF-F659-466C-A3FE-D4856DB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598-9BF4-48DE-B14C-ECF5FEB6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2C3-E737-4ABD-8B1E-C04A227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4AB-0E9C-4B3D-ADF8-88766F4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5EA-E24A-4E51-89D9-99226DB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F9702-499D-44DD-B989-7CE7D9F525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