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38687"/>
        <c:axId val="69766250"/>
      </c:barChart>
      <c:catAx>
        <c:axId val="43738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66250"/>
        <c:crosses val="autoZero"/>
        <c:auto val="1"/>
        <c:lblAlgn val="ctr"/>
        <c:lblOffset val="100"/>
        <c:noMultiLvlLbl val="0"/>
      </c:catAx>
      <c:valAx>
        <c:axId val="69766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38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AC6-B92D-4A21-8B41-D0EE6891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561-D1E7-4000-ACA6-E9AC6022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CF4-778F-418F-AFF3-D67CF96E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75A-B1B7-457B-B8B8-F88DDA90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6BF-863F-4F67-B844-26ABBCE9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806-C67C-47DA-89C5-BC558982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ABD-98A7-4944-BEEB-05368820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4E1-BD07-48FF-93DD-A2C84793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FAF-A4A2-4E7E-A95B-E8B828A8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C61-D434-483B-9F11-1EB8CE7F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A28-9F0A-4CEB-9B2E-36200B47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D46-D743-47BB-BD68-9C3C334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BEF28-8A23-4425-9979-1AC68312CB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