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38042"/>
        <c:axId val="2739594"/>
      </c:barChart>
      <c:catAx>
        <c:axId val="98738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594"/>
        <c:crosses val="autoZero"/>
        <c:auto val="1"/>
        <c:lblAlgn val="ctr"/>
        <c:lblOffset val="100"/>
        <c:noMultiLvlLbl val="0"/>
      </c:catAx>
      <c:valAx>
        <c:axId val="2739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38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C8F-3E11-4718-9D3B-598D19B6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097-BA39-4667-9645-E9716CC9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780-8A76-4A3A-A9DC-6903B1EE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3F3-8792-4D98-A87E-2A2AAE79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AF2-EDBA-4D09-9270-FC5C4C83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A7A-C3D1-4A3D-B8E1-C1EB9B9E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06F-2FBC-4064-A9DC-AFE153A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C76-0C41-4A1F-B21E-B43FD38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381-8FE6-4C51-8A99-431B37F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1B0-CDCB-498B-864C-7DE5D3D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9F1-86E5-49EE-B43E-2E13D4C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BDD-5E9A-4914-BADB-1AB95F5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821AB-369D-4CA7-80B2-AD5AA1993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